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C8E9-970E-4384-BA74-349FF003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8221-352F-4CCD-9DEC-52B354F1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0D78-5319-4C4F-858A-74E17BFC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4971-ECFE-4645-8E68-7EE35E6E2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211E-8F05-4189-9B04-51B048DC0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7050-F759-48BC-A751-38FD20AE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9CE3-CF38-4F4D-A634-460DF644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3A72-D16F-44AC-8B87-5BCA816E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25F3-98C8-4BE9-9D44-310C1C4A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5F63-7BE1-4AB4-9412-D41D902D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B9ED-4DF4-4DBA-B4BD-93319FAF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E632-8FA1-4C13-9CED-D27FF7C7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423A-B59B-40FF-88B1-0CBC6324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B587-B84B-46CE-9711-B54B58F7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7CC4-ECA9-4B58-9B8F-7F44FB3F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856B-260C-4C75-BECF-6066506F9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FB7C-3219-4C55-AB9D-7A37C5B1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D62B-61FF-487C-BCA5-D3915015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AFA7-DE01-45BE-B4A6-2B5AED5E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BF9A-CE9F-4CAA-87DE-EE0CB287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7DCD-52F1-4FF7-901D-DAFAF56F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8D95-61A5-4431-8285-67DDA29D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8795-1886-43AF-9C44-733D6E75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4C07-1FCC-479D-B0C8-64E08023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1112-97E5-4DAB-AB9E-C6CDD74605D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D4C8-8717-433B-A7E8-48062751DCC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403280" y="5805000"/>
            <a:ext cx="6400800" cy="7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Автор: Истомина Над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835280" y="56844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Impact"/>
              </a:rPr>
              <a:t>Тема учебного проек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WordArt 11"/>
          <p:cNvSpPr txBox="1"/>
          <p:nvPr/>
        </p:nvSpPr>
        <p:spPr>
          <a:xfrm>
            <a:off x="1187280" y="836640"/>
            <a:ext cx="712980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Страна Дробей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pic>
        <p:nvPicPr>
          <p:cNvPr id="85" name="Picture 14" descr="school19-08"/>
          <p:cNvPicPr/>
          <p:nvPr/>
        </p:nvPicPr>
        <p:blipFill>
          <a:blip r:embed="rId1"/>
          <a:stretch/>
        </p:blipFill>
        <p:spPr>
          <a:xfrm>
            <a:off x="2195640" y="2924280"/>
            <a:ext cx="504036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0" spc="-1" strike="noStrike">
                <a:solidFill>
                  <a:srgbClr val="ffff00"/>
                </a:solidFill>
                <a:latin typeface="Arial"/>
              </a:rPr>
              <a:t>Желаем Удачи!!!!!</a:t>
            </a:r>
            <a:endParaRPr b="0" lang="en-US" sz="1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5" descr="school02-12"/>
          <p:cNvPicPr/>
          <p:nvPr/>
        </p:nvPicPr>
        <p:blipFill>
          <a:blip r:embed="rId1"/>
          <a:stretch/>
        </p:blipFill>
        <p:spPr>
          <a:xfrm>
            <a:off x="3564000" y="3933720"/>
            <a:ext cx="3009960" cy="27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37760" indent="-32868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7760" indent="-328680"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Можно ли   измерить мир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437760" indent="-3286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7760" indent="-328680">
              <a:spcBef>
                <a:spcPts val="700"/>
              </a:spcBef>
              <a:buClr>
                <a:srgbClr val="7030a0"/>
              </a:buClr>
              <a:buSzPct val="10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В каких областях применяются большие единицы измерения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7760" indent="-328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( железная дорого, металлургия, космос , и т. д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7760" indent="-328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7760" indent="-328680">
              <a:spcBef>
                <a:spcPts val="700"/>
              </a:spcBef>
              <a:buClr>
                <a:srgbClr val="7030a0"/>
              </a:buClr>
              <a:buSzPct val="10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В каких областях применяются маленькие измерения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7760" indent="-328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(химия, аптека, биология, и т. д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7760" indent="-328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6" descr="55a1f737e21f8f9b929f2d26"/>
          <p:cNvPicPr/>
          <p:nvPr/>
        </p:nvPicPr>
        <p:blipFill>
          <a:blip r:embed="rId1"/>
          <a:stretch/>
        </p:blipFill>
        <p:spPr>
          <a:xfrm>
            <a:off x="395280" y="260280"/>
            <a:ext cx="3384720" cy="26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70c0"/>
              </a:buClr>
              <a:buSzPct val="6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1м = _______ с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70c0"/>
              </a:buClr>
              <a:buSzPct val="6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5 км =______  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10 т =______ к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15 кг =______ 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1 см = ______ 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Прямоугольник 3" descr=""/>
          <p:cNvPicPr/>
          <p:nvPr/>
        </p:nvPicPr>
        <p:blipFill>
          <a:blip r:embed="rId1"/>
          <a:stretch/>
        </p:blipFill>
        <p:spPr>
          <a:xfrm>
            <a:off x="1981080" y="189000"/>
            <a:ext cx="5437440" cy="1358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school02-14"/>
          <p:cNvPicPr/>
          <p:nvPr/>
        </p:nvPicPr>
        <p:blipFill>
          <a:blip r:embed="rId2"/>
          <a:stretch/>
        </p:blipFill>
        <p:spPr>
          <a:xfrm>
            <a:off x="4788000" y="1844640"/>
            <a:ext cx="3983040" cy="450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69800" y="189000"/>
            <a:ext cx="8350200" cy="1274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806c6"/>
                </a:solidFill>
                <a:latin typeface="Arial"/>
              </a:rPr>
              <a:t>1 м = 100 с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806c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806c6"/>
                </a:solidFill>
                <a:latin typeface="Arial"/>
              </a:rPr>
              <a:t>1 см – сотая часть мет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7" descr="school06-17"/>
          <p:cNvPicPr/>
          <p:nvPr/>
        </p:nvPicPr>
        <p:blipFill>
          <a:blip r:embed="rId2"/>
          <a:stretch/>
        </p:blipFill>
        <p:spPr>
          <a:xfrm>
            <a:off x="179280" y="1916280"/>
            <a:ext cx="2124360" cy="4584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school02-30"/>
          <p:cNvPicPr/>
          <p:nvPr/>
        </p:nvPicPr>
        <p:blipFill>
          <a:blip r:embed="rId3"/>
          <a:stretch/>
        </p:blipFill>
        <p:spPr>
          <a:xfrm>
            <a:off x="5940360" y="3789360"/>
            <a:ext cx="2990880" cy="30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8358120" cy="1816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 Black"/>
              </a:rPr>
              <a:t>Как и когда возникли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Arial Black"/>
              </a:rPr>
              <a:t>Зачем нужны дроб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Arial Black"/>
              </a:rPr>
              <a:t>Как  выполняются действия с дробям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7" descr="school10-09"/>
          <p:cNvPicPr/>
          <p:nvPr/>
        </p:nvPicPr>
        <p:blipFill>
          <a:blip r:embed="rId2"/>
          <a:stretch/>
        </p:blipFill>
        <p:spPr>
          <a:xfrm>
            <a:off x="5796000" y="1916280"/>
            <a:ext cx="3000240" cy="429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324000" y="401760"/>
            <a:ext cx="824040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14440" indent="-386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00"/>
                </a:solidFill>
                <a:latin typeface="Times New Roman"/>
              </a:rPr>
              <a:t>Для начала разделимся на небольшие команды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lnSpc>
                <a:spcPct val="100000"/>
              </a:lnSpc>
              <a:spcBef>
                <a:spcPts val="1100"/>
              </a:spcBef>
              <a:buClr>
                <a:srgbClr val="5a2c64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Book Antiqua"/>
              </a:rPr>
              <a:t>Историк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lnSpc>
                <a:spcPct val="100000"/>
              </a:lnSpc>
              <a:spcBef>
                <a:spcPts val="1100"/>
              </a:spcBef>
              <a:buClr>
                <a:srgbClr val="5a2c64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41837"/>
                </a:solidFill>
                <a:latin typeface="Book Antiqua"/>
              </a:rPr>
              <a:t>Исследовател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lnSpc>
                <a:spcPct val="100000"/>
              </a:lnSpc>
              <a:spcBef>
                <a:spcPts val="1001"/>
              </a:spcBef>
              <a:buClr>
                <a:srgbClr val="5a2c64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lnSpc>
                <a:spcPct val="100000"/>
              </a:lnSpc>
              <a:spcBef>
                <a:spcPts val="1100"/>
              </a:spcBef>
              <a:buClr>
                <a:srgbClr val="5a2c64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Book Antiqua"/>
              </a:rPr>
              <a:t>Теоретик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6" descr="school02-21"/>
          <p:cNvPicPr/>
          <p:nvPr/>
        </p:nvPicPr>
        <p:blipFill>
          <a:blip r:embed="rId2"/>
          <a:stretch/>
        </p:blipFill>
        <p:spPr>
          <a:xfrm>
            <a:off x="5219640" y="2133720"/>
            <a:ext cx="3616560" cy="43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69800" y="0"/>
            <a:ext cx="8240760" cy="1249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6840" y="1599840"/>
            <a:ext cx="5986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09040" indent="-382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i="1" lang="ru-RU" sz="2800" spc="-1" strike="noStrike">
                <a:solidFill>
                  <a:srgbClr val="3806c6"/>
                </a:solidFill>
                <a:latin typeface="Times New Roman"/>
              </a:rPr>
              <a:t>Как возникли дроб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9040" indent="-382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9040" indent="-382320">
              <a:lnSpc>
                <a:spcPct val="90000"/>
              </a:lnSpc>
              <a:spcBef>
                <a:spcPts val="700"/>
              </a:spcBef>
              <a:buClr>
                <a:srgbClr val="3d0af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В каких  источниках впервые упоминается о дробях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9040" indent="-382320">
              <a:lnSpc>
                <a:spcPct val="90000"/>
              </a:lnSpc>
              <a:spcBef>
                <a:spcPts val="700"/>
              </a:spcBef>
              <a:buClr>
                <a:srgbClr val="3d0af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</a:t>
            </a: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роби!!! Какие они в Древнем Вавилон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9040" indent="-382320">
              <a:lnSpc>
                <a:spcPct val="90000"/>
              </a:lnSpc>
              <a:spcBef>
                <a:spcPts val="700"/>
              </a:spcBef>
              <a:buClr>
                <a:srgbClr val="3d0af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Как относились к дробям в Древней Греци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9040" indent="-382320">
              <a:lnSpc>
                <a:spcPct val="90000"/>
              </a:lnSpc>
              <a:spcBef>
                <a:spcPts val="700"/>
              </a:spcBef>
              <a:buClr>
                <a:srgbClr val="3d0af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Где впервые стали записывать дроби с помощью числителя и знаменателя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9040" indent="-382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6" descr="school02-28"/>
          <p:cNvPicPr/>
          <p:nvPr/>
        </p:nvPicPr>
        <p:blipFill>
          <a:blip r:embed="rId2"/>
          <a:stretch/>
        </p:blipFill>
        <p:spPr>
          <a:xfrm>
            <a:off x="6443640" y="2565360"/>
            <a:ext cx="2448000" cy="41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01760" y="189000"/>
            <a:ext cx="8742240" cy="1231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806c6"/>
                </a:solidFill>
                <a:latin typeface="Times New Roman"/>
              </a:rPr>
              <a:t>Зачем нужны дроб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Люди каких профессий в своей деятельности используют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ие задачи на дроби они решают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5" descr="school02-11"/>
          <p:cNvPicPr/>
          <p:nvPr/>
        </p:nvPicPr>
        <p:blipFill>
          <a:blip r:embed="rId2"/>
          <a:stretch/>
        </p:blipFill>
        <p:spPr>
          <a:xfrm>
            <a:off x="6696000" y="3213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school19-03"/>
          <p:cNvPicPr/>
          <p:nvPr/>
        </p:nvPicPr>
        <p:blipFill>
          <a:blip r:embed="rId3"/>
          <a:stretch/>
        </p:blipFill>
        <p:spPr>
          <a:xfrm>
            <a:off x="1116000" y="4581360"/>
            <a:ext cx="4392720" cy="22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806c6"/>
                </a:solidFill>
                <a:latin typeface="Times New Roman"/>
              </a:rPr>
              <a:t>Как выполнить действие с дробям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ие дроби существуют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записываются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сравнить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сложить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вычесть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умножить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делить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5" descr="school19-07"/>
          <p:cNvPicPr/>
          <p:nvPr/>
        </p:nvPicPr>
        <p:blipFill>
          <a:blip r:embed="rId2"/>
          <a:stretch/>
        </p:blipFill>
        <p:spPr>
          <a:xfrm>
            <a:off x="5148360" y="2421000"/>
            <a:ext cx="3786120" cy="4005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4:16:59Z</dcterms:created>
  <dc:creator>Admin</dc:creator>
  <dc:description/>
  <dc:language>en-US</dc:language>
  <cp:lastModifiedBy>26518</cp:lastModifiedBy>
  <dcterms:modified xsi:type="dcterms:W3CDTF">2010-05-28T05:36:22Z</dcterms:modified>
  <cp:revision>30</cp:revision>
  <dc:subject/>
  <dc:title>Главное не в том как накопить больше знаний,- главное в том, чтобы это знание, великое или малое, принадлежало тебе, явилось бы детищем твоих собственных усилий. Р. Роллан</dc:title>
</cp:coreProperties>
</file>